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B571-E0B0-440F-8FAD-33090FE39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6544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F98E-DFFF-4147-8F6D-AE3FA6116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F1C0-7C98-458F-9C2A-DD86C84AF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0D56-FCAE-4C23-9B71-1F6DDBEB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5B0E-8920-4772-9D7D-6899858B9F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489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1489-519B-4B48-AE68-6A87E1D26E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CF4B-46FE-4B01-AD97-C7E8C7E89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60D4-97B8-4174-8B41-5DFD5436D7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9B84-DB77-40FA-B099-DB8ABF6350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365C-FEC2-439B-AF13-D5760F6B2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E790-FE96-4683-813B-02E9925326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489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916C-1D3C-4BAA-B869-4350CD4EC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23B7-927F-438A-8287-A5AACFE5E7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F02D-30AE-4A61-82F2-A828AA75C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46544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FBC8-15A8-4FA0-A1F8-C65DFD95D3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4290-1E6F-4447-BEAE-12517E90CB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4896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465440"/>
            <a:ext cx="250236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340F-7F75-4FE2-B37E-9107670B2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EB31-DE5E-462E-86A7-74C86C090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8FE-9A12-4ADF-9D4F-270880CAB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6D40-FCB5-48D5-91B5-D3DEA6993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4D9D-91DE-4E4B-B643-27DB6BE40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739A-3936-4489-A326-1C90AAF96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46544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11C1-2414-427A-B0E5-2AF716180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65440"/>
            <a:ext cx="7772400" cy="2388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21AC-C9F0-4F7A-AC17-9022A7CB3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41911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65000"/>
          </a:bodyPr>
          <a:p>
            <a:pPr marL="255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5560" indent="-25560" algn="ctr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562-956F-43A5-AC8D-5023C0ED6A30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8489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289560"/>
            <a:ext cx="2923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234-65AF-4ED1-8EDF-F0F7EAF1E3FB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Rectangle 2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" name="Line 4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2556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2556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5" name="Text Box 8"/>
          <p:cNvSpPr/>
          <p:nvPr/>
        </p:nvSpPr>
        <p:spPr>
          <a:xfrm>
            <a:off x="7359480" y="6248520"/>
            <a:ext cx="292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D0C-C12C-48D3-88EA-7CAA2DFFA6DD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 Italic"/>
              </a:rPr>
              <a:t>Comedy of Manners</a:t>
            </a:r>
            <a:endParaRPr b="0" lang="en-US" sz="72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3733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High Comed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Low Comed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Farc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2560" y="6095880"/>
            <a:ext cx="911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Note:  Information is from M. H. Abrams’s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Glossary of Literary Terms, pp. 26 - 27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I.  Comedy of Mann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2000"/>
          </a:bodyPr>
          <a:p>
            <a:pPr marL="351720" indent="-31536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A.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 Italic"/>
                <a:ea typeface="Times New Roman Italic"/>
              </a:rPr>
              <a:t>Subject matter: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                                      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the relationships between gentlemen and 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ladies of a sophisticated societ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51720" indent="-31536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B.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 Italic"/>
                <a:ea typeface="Times New Roman Italic"/>
              </a:rPr>
              <a:t>Comic eff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0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1.  typically brought about by witty dialogue also known as “repartee” (cf. stichomythia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0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2. noted in absurd violations of social conventions committed by foolish characters       (</a:t>
            </a:r>
            <a:r>
              <a:rPr b="0" lang="en-US" sz="2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Consider the three pairs of lovers in                                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 Italic"/>
                <a:ea typeface="Times New Roman Italic"/>
              </a:rPr>
              <a:t>The Importance of Being Earnest</a:t>
            </a:r>
            <a:r>
              <a:rPr b="0" lang="en-US" sz="2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 by Oscar Wilde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II. High Comedy:  emphasis on wit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1000"/>
          </a:bodyPr>
          <a:p>
            <a:pPr marL="30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9960" indent="-27756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A.  The intention is to evoke laughter at </a:t>
            </a:r>
            <a:r>
              <a:rPr b="0" lang="en-US" sz="36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 foolish and pretentious behavior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9960" indent="-27756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B.  Best evident in a battle of wits     </a:t>
            </a:r>
            <a:r>
              <a:rPr b="0" lang="en-US" sz="36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between sophisticated lovers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63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33600" indent="-2314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Shakespeare’s Beatrice and Benedick,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 Italic"/>
                <a:ea typeface="Times New Roman Italic"/>
              </a:rPr>
              <a:t>Much Ado about Noth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III. Low Comedy:emphasis on slapstick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A. Laughter results from slapstick humor 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and simple jok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B.  Farce is simila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In farce the characters are NOT the highly sophisticated characters found in a comedy of manner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but instead are more often exaggerated character types put into absurd situations, characterized by much horseplay,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as seen in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 Italic"/>
                <a:ea typeface="Times New Roman Italic"/>
              </a:rPr>
              <a:t>The Tempest</a:t>
            </a:r>
            <a:r>
              <a:rPr b="0" lang="en-US" sz="2400" spc="-1" strike="noStrike">
                <a:solidFill>
                  <a:srgbClr val="003300"/>
                </a:solidFill>
                <a:latin typeface="Times New Roman Italic"/>
                <a:ea typeface="Times New Roman Italic"/>
              </a:rPr>
              <a:t> with Stefano and Trincul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1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556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 Italic"/>
              </a:rPr>
              <a:t>Farce:  emphasis on caricature</a:t>
            </a:r>
            <a:endParaRPr b="0" lang="en-US" sz="4400" spc="-1" strike="noStrike">
              <a:solidFill>
                <a:srgbClr val="ffffff"/>
              </a:solidFill>
              <a:latin typeface="Times New Roman Italic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808200" y="213372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Farce is designed to provoke an audienc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o simple, hearty laughter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25520" y="3581280"/>
            <a:ext cx="837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</a:rPr>
              <a:t>Elements include: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* Exaggerated character types, or caricature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* Broad verbal humor or physical horseplay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* Ludicrous situation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IS</dc:creator>
  <dc:description/>
  <dc:language>en-US</dc:language>
  <cp:lastModifiedBy>Skip Nicholson</cp:lastModifiedBy>
  <dcterms:modified xsi:type="dcterms:W3CDTF">2010-12-08T04:47:27Z</dcterms:modified>
  <cp:revision>4</cp:revision>
  <dc:subject/>
  <dc:title>Comedy of Manners</dc:title>
</cp:coreProperties>
</file>